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13C-33DD-4FDE-BEA2-0D95CD76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C803-26A8-4008-AFF1-63F1C034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6DE-766F-4400-91A3-6835A824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F644-1C83-4994-B7D5-73F103A9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B8BF-579B-44A0-A503-9C356684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4038-AB56-4AB5-9C11-6B95754B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6984-511F-489F-B26E-76EFF91C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4842-E792-439E-A9FA-623BD052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6756-DF01-428E-B27B-81515ED6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D8AC-582A-4ECE-86DF-6F21641A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9EAC-1B7C-48FE-A129-EA31A215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B2D3-C83F-449F-97BC-09963C70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FF97-41D3-4D1C-A349-0425F83C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2462-74AD-45B4-9B80-996213B6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F015-A38E-4E93-9C03-7FFC29E4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1DF0-9BBE-4AAE-9298-61D595C8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06B4-35BA-488B-A9DD-5B837927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19B-0441-4258-A096-6C0F2FA5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84D-46EB-460B-B2F3-CC2084E3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D87-0F53-4DAA-8C8C-8066E9FC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7481-4135-4582-9F04-173E3190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44C-EED6-4729-884B-59442AA7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CDD1-3E04-418F-AA65-DCEAC8A4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E02-3B24-48F4-86FB-16252EC1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2421-2C6B-454F-BED4-74D6CE76BA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DB6D-A2FE-448C-B422-1DB66F8939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ulgakov.ru/" TargetMode="External"/><Relationship Id="rId2" Type="http://schemas.openxmlformats.org/officeDocument/2006/relationships/hyperlink" Target="http://www.bulgakov.ru/" TargetMode="External"/><Relationship Id="rId3" Type="http://schemas.openxmlformats.org/officeDocument/2006/relationships/hyperlink" Target="http://www.bulgakov.ru/" TargetMode="External"/><Relationship Id="rId4" Type="http://schemas.openxmlformats.org/officeDocument/2006/relationships/hyperlink" Target="http://www.bulgakov.ru/galleries/msk" TargetMode="External"/><Relationship Id="rId5" Type="http://schemas.openxmlformats.org/officeDocument/2006/relationships/hyperlink" Target="http://www.bulgakov.ru/galleries/msk" TargetMode="External"/><Relationship Id="rId6" Type="http://schemas.openxmlformats.org/officeDocument/2006/relationships/hyperlink" Target="http://www.bulgakov.ru/galleries/msk" TargetMode="External"/><Relationship Id="rId7" Type="http://schemas.openxmlformats.org/officeDocument/2006/relationships/hyperlink" Target="http://www.bulgakov.ru/galleries/msk" TargetMode="External"/><Relationship Id="rId8" Type="http://schemas.openxmlformats.org/officeDocument/2006/relationships/hyperlink" Target="http://www.bulgakov.ru/galleries/msk" TargetMode="External"/><Relationship Id="rId9" Type="http://schemas.openxmlformats.org/officeDocument/2006/relationships/hyperlink" Target="http://www.bulgakov.ru/galleries/msk" TargetMode="External"/><Relationship Id="rId10" Type="http://schemas.openxmlformats.org/officeDocument/2006/relationships/hyperlink" Target="http://www.bulgakov.ru/galleries/msk" TargetMode="External"/><Relationship Id="rId11" Type="http://schemas.openxmlformats.org/officeDocument/2006/relationships/hyperlink" Target="http://world.lib.ru/s/smirnow_t_l/bulgakov.shtml" TargetMode="External"/><Relationship Id="rId12" Type="http://schemas.openxmlformats.org/officeDocument/2006/relationships/hyperlink" Target="http://world.lib.ru/s/smirnow_t_l/bulgakov.shtml" TargetMode="External"/><Relationship Id="rId13" Type="http://schemas.openxmlformats.org/officeDocument/2006/relationships/hyperlink" Target="http://world.lib.ru/s/smirnow_t_l/bulgakov.shtml" TargetMode="External"/><Relationship Id="rId14" Type="http://schemas.openxmlformats.org/officeDocument/2006/relationships/hyperlink" Target="http://world.lib.ru/s/smirnow_t_l/bulgakov.shtml" TargetMode="External"/><Relationship Id="rId15" Type="http://schemas.openxmlformats.org/officeDocument/2006/relationships/hyperlink" Target="http://world.lib.ru/s/smirnow_t_l/bulgakov.shtml" TargetMode="External"/><Relationship Id="rId16" Type="http://schemas.openxmlformats.org/officeDocument/2006/relationships/hyperlink" Target="http://world.lib.ru/s/smirnow_t_l/bulgakov.shtml" TargetMode="External"/><Relationship Id="rId17" Type="http://schemas.openxmlformats.org/officeDocument/2006/relationships/hyperlink" Target="http://world.lib.ru/s/smirnow_t_l/bulgakov.shtml" TargetMode="External"/><Relationship Id="rId18" Type="http://schemas.openxmlformats.org/officeDocument/2006/relationships/hyperlink" Target="http://obozrevatel.com/news/2006/1/27/83471.htm" TargetMode="External"/><Relationship Id="rId19" Type="http://schemas.openxmlformats.org/officeDocument/2006/relationships/hyperlink" Target="http://obozrevatel.com/news/2006/1/27/83471.htm" TargetMode="External"/><Relationship Id="rId20" Type="http://schemas.openxmlformats.org/officeDocument/2006/relationships/hyperlink" Target="http://obozrevatel.com/news/2006/1/27/83471.htm" TargetMode="External"/><Relationship Id="rId21" Type="http://schemas.openxmlformats.org/officeDocument/2006/relationships/hyperlink" Target="http://obozrevatel.com/news/2006/1/27/83471.htm" TargetMode="External"/><Relationship Id="rId22" Type="http://schemas.openxmlformats.org/officeDocument/2006/relationships/hyperlink" Target="http://obozrevatel.com/news/2006/1/27/83471.htm" TargetMode="External"/><Relationship Id="rId23" Type="http://schemas.openxmlformats.org/officeDocument/2006/relationships/hyperlink" Target="http://obozrevatel.com/news/2006/1/27/83471.htm" TargetMode="External"/><Relationship Id="rId2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&#1042;&#1086;&#1083;&#1072;&#1085;&#1076;.doc" TargetMode="External"/><Relationship Id="rId2" Type="http://schemas.openxmlformats.org/officeDocument/2006/relationships/hyperlink" Target="&#1042;&#1086;&#1083;&#1072;&#1085;&#1076;.doc" TargetMode="External"/><Relationship Id="rId3" Type="http://schemas.openxmlformats.org/officeDocument/2006/relationships/hyperlink" Target="&#1042;&#1086;&#1083;&#1072;&#1085;&#1076;.doc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&#1073;&#1072;&#1083; &#1074; &#1095;&#1077;&#1089;&#1090;&#1100; &#1042;&#1086;&#1083;&#1072;&#1085;&#1076;&#1072;.doc" TargetMode="External"/><Relationship Id="rId3" Type="http://schemas.openxmlformats.org/officeDocument/2006/relationships/hyperlink" Target="&#1073;&#1072;&#1083; &#1074; &#1095;&#1077;&#1089;&#1090;&#1100; &#1042;&#1086;&#1083;&#1072;&#1085;&#1076;&#1072;.doc" TargetMode="External"/><Relationship Id="rId4" Type="http://schemas.openxmlformats.org/officeDocument/2006/relationships/hyperlink" Target="&#1073;&#1072;&#1083; &#1074; &#1095;&#1077;&#1089;&#1090;&#1100; &#1042;&#1086;&#1083;&#1072;&#1085;&#1076;&#1072;.doc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&#1082;&#1086;&#1090; &#1041;&#1077;&#1075;&#1077;&#1084;&#1086;&#1090;.doc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истика в творчестве Михаила Булгакова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(по роману «Мастер и Маргарита»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257440" y="3200400"/>
            <a:ext cx="3505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ил ученик 11В клас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ш №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рк Ле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52480" y="1743120"/>
            <a:ext cx="5715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Информационные ресурс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www.bulgakov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www.bulgakov.ru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galleries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m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3"/>
              </a:rPr>
              <a:t>world.lib.ru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4"/>
              </a:rPr>
              <a:t>/s/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5"/>
              </a:rPr>
              <a:t>smirnow_t_l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6"/>
              </a:rPr>
              <a:t>/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7"/>
              </a:rPr>
              <a:t>bulgakov.s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8"/>
              </a:rPr>
              <a:t>http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9"/>
              </a:rPr>
              <a:t>://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20"/>
              </a:rPr>
              <a:t>obozrevatel.com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22"/>
              </a:rPr>
              <a:t>news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23"/>
              </a:rPr>
              <a:t>/2006/1/27/83471.ht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Что такое «мистика?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вера в божественное, в таинственный, сверхъестественный мир и возможность непосредственного общения с н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нечто загадочное, необъясним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определения из толкового словаря Ожегова и Шведово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ман известного русского писателя Михаила Афанасьевича Булгакова (1891-1940) "Мастер и Маргарита" особняком стоит от всех его прочих работ. Это не просто блистательно написанное произведение, но и в самой полное мере - и литературная, и духовная сенсация одновременно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ё описанное писателем открывает нам некую закулисную действительность, невидимую игру разумных энергий, перед которыми человек, зачастую, как кукла-марионетка, бессилен. Отдельный читатель даже смеет предположить: "а вдруг так оно всё и было? - верю!", или - "а что, если все эти незримо действующие и влиятельные Силы и в самом деле существуют!?" - такова волшебная сила искусства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омане нам встречается много мистических эле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их, ка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Знакомство с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Воландом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 и его коллегами по «тёмному цеху»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447920" y="2743200"/>
            <a:ext cx="51051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nochnojdozor_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2209680" y="5688720"/>
            <a:ext cx="4392720" cy="510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Bookman Old Style"/>
                <a:hlinkClick r:id="rId2"/>
              </a:rPr>
              <a:t>Бал в честь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Bookman Old Style"/>
                <a:hlinkClick r:id="rId3"/>
              </a:rPr>
              <a:t>Воланда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Bookman Old Style"/>
                <a:hlinkClick r:id="rId4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- Булгаков великолепно описывает сцену обретения  способности полёта Маргариты при помощи чудесной мази Воланда...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Сердце Маргариты страшно стукнуло, так что она не смогла даже сразу взяться за коробочку… Кончиком пальца Маргарита выложила небольшой мазочек крема на ладонь, причём и лесом, и затем ладонью начала втирать крем в лоб и щёк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Маргарита летела беззвучно, очень медленно и невысоко, примерно на уровне второго этажа. Но и при медленном лёте, у самого выхода на ослепительно освещенный Арбат, она немного промахнулась и плечом ударилась о какой-то освещенный диск, на котором была нарисована стрела. Это рассердило Маргариту. Она осадила послушную щётку, отлетела в сторону, а потом, бросившись на диск внезапно, концом щётки разбила его вдребезги. Посыпались с грохотом осколки, прохожие шарахнулись, где-то засвистели, а Маргарита, совершив этот ненужный поступок, расхохоталась"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- Кот Бегемо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133720" y="1676520"/>
            <a:ext cx="5181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07T05:57:3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